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0696-7181-4ACF-BD7A-62EE8CE91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780E-9B35-48E5-8301-6825CDDCB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9AFE-065F-4B89-83D0-2D69BF427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7508-36E0-4ED9-BF36-8E84F849B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AA0131-4D8E-4769-A078-5C16BD8E7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E44BBD-9CC6-49D1-8135-C11C2F3E7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4DAB22-4D3D-4F35-8FAD-E68ABEB79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96D78E-77E1-4136-B302-B98E4AE94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B8A7A6-0DDA-4C25-9083-27301383A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5605E3-93B5-4395-81AB-4FEF8B874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BC10DE-3C04-4B80-BCDF-499EBD1B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6070-BE1B-4FFC-92BB-A22C242C1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C96676-F518-4917-BF19-9337AD95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B25834-C4FB-4AAB-824A-E9210AA7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568532-B7D5-4C46-9183-E057E8C5C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37FFE7-5F6A-4F3F-8A03-BCD16C49F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E5785B-93D3-435A-B671-361A4F17D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0C48-04DC-4829-B3B7-E55EE8169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545E-52BA-416B-95C3-3584285D4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5BF4-5C3F-41BF-A75B-C51D7F685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A8B6-AFCA-483F-8992-05511AB5C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7982-824C-45CA-9A74-9EA93B92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EB38-C23E-482C-B2E1-B3A8174A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6EDB-F833-4B2E-9CB2-A5712822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A8E6E-E3DC-41D4-9D94-BE86B9CCB9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6AA4-6E2D-4B0D-81A6-CDB0BBCF4E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VFP 9.0 Member Dat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ke Stew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crosoft Corpor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ember Data XML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?xml version="1.0" encoding="Windows-1252" standalone="yes"?&g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VFPData&g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emberdata nam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"borderstyle"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yp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"property"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avorit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"True"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verrid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"False"/&g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emberdata nam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"foobar"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yp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"property"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ispla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"FooBar"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avorit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"True"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verrid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"False"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crip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"FooBarScript"/&g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/VFPData&g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operty Edito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FP will first search in the _MemberData property for reference to this property. The rules for MemberData inheritance are applied. If no valid property script can be found, no ellipses button is display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 native properties, the user is responsible for returning the property data type required by that property otherwise an error will occu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a native property already has an editor (e.g., Color Picker for colors), it will be overridden that if another is specifi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ke a Builder, the custom Property Editor is responsible for setting the property value. It should use ASELOBJ() to get a reference to the selected object(s). It is recommended that Property Editors work similar to builders and hide the Property Sheet if not dock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avorite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ght-click menu in the property she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isplay Formatt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perty Sheet tab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lliSense -- ListMembers dropdow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thod editor procedures list (Methods only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cument View (Methods only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0T18:04:08Z</dcterms:created>
  <dc:creator>Mike Stewart</dc:creator>
  <dc:description/>
  <dc:language>en-US</dc:language>
  <cp:lastModifiedBy>Mike Stewart</cp:lastModifiedBy>
  <dcterms:modified xsi:type="dcterms:W3CDTF">2004-08-10T18:13:01Z</dcterms:modified>
  <cp:revision>2</cp:revision>
  <dc:subject/>
  <dc:title>VFP 9.0 Member Data</dc:title>
</cp:coreProperties>
</file>